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8DBE-0211-47B2-98D2-6FF1F3B37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27B7-F07A-468B-89FA-40AEF0E4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94D0-27C7-4281-9D6E-FFEF87242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EB1E-0D9A-49A8-AFE1-F59E10245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D6B3-0E2C-4605-85DC-13202928B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63BD-7917-495C-89EB-26DB3617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D62A-D9DC-4217-AA3E-F50D4E00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1A93-AE2C-4585-91FB-F9F6F14E0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0935-8710-4016-B988-83406F01F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80E6-3498-4FA8-99C4-CBE8C001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B0BE-2435-445B-A873-5099607E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14D0-2683-423C-A30B-93446AC8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762C-D90D-4E05-875D-6263115347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51 To nemô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 mi nikto vzia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o nemôže mi nikto vzi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čo neochvejne verím,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smieť večný život v Krist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u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 mať,</a:t>
            </a:r>
            <a:br>
              <a:rPr sz="47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o nad všetko si cením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Ja viem, že ho raz uvidí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večne budem bývať s ní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večne budem bývať s ní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 to verím srdcom celým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Môj život je len krátky bo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šak odmena je istá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už skoro vziať smie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odi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el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vo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 rúk Kráľa kráľov, Krist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en, ktorý za mňa zomrel raz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je pri mne stále, v každý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je pri mne stále, v každý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ňom bezpečný mám prístav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Môj Pane, ty ma vyveď s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o sveta márnivo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ou úzkou cestou k výšin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eď domov, do rad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Svet tento tiež má mno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h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o kr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o potrvá len krátky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o potrvá len krátky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ja túžim po večnosti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4:39:08Z</dcterms:modified>
  <cp:revision>21</cp:revision>
  <dc:subject/>
  <dc:title>Je veľký náš Pán, on slávy je Kráľ Nech do všetkých strán  spev vrúcnych znie chvál.</dc:title>
</cp:coreProperties>
</file>